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F077A-7437-4B8A-8519-CD6C3FD95FD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74BBC-C4DA-46BA-A087-C37A53FFC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23F8A-909C-4553-90DE-90E074FDD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CD03FF-16E7-407B-B357-54C0EDC35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CDE75D-DF93-473D-94BC-5E8E5B3CF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C4A4E-24C2-4703-88D2-FF806369E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A38DE-D9BE-40C7-854E-7D1A913C1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15439-D31F-45A3-8DDC-F440A1149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657F8-6672-497E-A4EF-8D7EC0BF2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32BBB-2188-42D6-A2A7-D00CBB192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E6296-5079-46AF-99AB-407D0E81D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D415A-4E23-4EE5-86E3-821109235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B0CBE-3448-4997-AD93-38EF2392D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A3EA0-7D7F-4D41-8A7A-8A25A01BA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9B24E-CCC1-47F0-B3BA-00866DACF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CB4FA-F0A6-4043-85C2-08BF31D6E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F42D40-BE63-49BF-975E-415F74DB0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4C76E-3674-460C-BA7A-247D7B31A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B6E94-7690-4F10-ABBE-BDF5A5B93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F8649-1A2A-4547-A26B-D99E7BF2B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8A924-EF81-463D-BF36-836ED8D9C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6C2E2-EBFE-457F-991A-159E4D6E1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353DC-F794-4C3C-82C6-7284A52E4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AD24A-4AF4-4C58-8B42-577888A8F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F3717-7195-4C74-BEAF-56A274DF1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8F8BE-59B5-4BCE-B178-373CD92BC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A9D3DD-8D2E-41BA-BA26-0F2FE9D23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EAB26-78D0-46BD-8936-1CB3DA9F9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3E9B8-8135-4360-AB8F-0DCF32E42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C7DC7-9264-46D3-A8BC-0A067440C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4EAC8-2EC0-4601-85A9-5ACE393F9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8BB377-3A75-40D4-8649-10F17B3D0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88B98-A820-4219-B9AC-1CB65CF85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6F3B0-729C-416F-A6F3-113B51756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C3FEE-58AC-470A-B3F9-CC53CFCE0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F3775-41A4-424D-A962-26A4598DA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B4411-5652-41B3-B0E3-5286148FE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9EB22-172E-4500-B6BD-90F4353B4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D11E8-8882-48AD-8EF7-5E4A43B3F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96D84-FB61-45ED-B1F8-C9BD3B23E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30A356-9661-43AC-96F2-6EE9D193F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0C54E-5A85-413C-AD9C-6C425A81B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812D8-D81E-4782-A9E5-E491E7B5B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C508C-70DE-449F-85EA-23661C567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6253C0-7B0D-45FD-8165-D47B41612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BE05C-261E-41EB-97C8-652BCFE2F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BEBA7-0714-4DD8-8232-8BACA0AAA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DC1E17-4E40-4377-B76E-6802316B7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DBAF1-3856-4DB6-8F6D-5645BA9B5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8D4E4-B2AE-4E81-8E72-7744F53C5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667D4-BE60-439B-A899-C20C4E3B8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6A893-F4BB-48CA-9AAF-38CAFE94F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A68A4-76EC-4936-8644-6982797D0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30D75-3D2A-4167-B855-F5F3E2940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FD3C75-A1A1-440D-9B58-5341A0B3C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E964A-DB8E-45F1-8DD1-4232B0A04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F43EC-B7BD-4C71-B0B5-26C9B2775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76F6D-C0A9-4EF8-A242-B425F776D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5D941-49F1-4D7B-ABF3-FB8198878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E095B-AEB3-4AB1-9F2B-CD81DA0F7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A383C-E192-4C93-9A46-CE24A1D54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006A3-6FC0-41D0-874A-8CAA58626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EF5C5-55BB-4D0B-83F6-BE2DE59F7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DA82F-56ED-4581-AD5E-FF864B8A1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C6CDA-F753-4688-A251-079EB0789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1A4BC-2481-4AE9-B0F3-C97760716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55D689-6C68-437A-B25E-0E468CD11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F0809-C57E-4760-B4BE-E564AB425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E68F3-AC13-4BFB-A9F0-2BC869607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529A1-A72F-4376-B88A-2599ECDD4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58A5FB6-C759-43C0-BFE9-8E248EB03A2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85A5405-2188-4022-AAB0-5EA562E636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89387617-5A08-4B05-9DC8-01E474A0403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D33C4AE-7FA5-459F-988F-620A1DBD14A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089F917-024B-4D4B-AF4D-6B778DD970A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C4E27F2-D424-4592-B2E0-73E3FA9413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F95D974-DCD9-4766-AD08-D62DBBC9E73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46C4C40-6CFF-425A-B14D-983F8C1D5BA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CF201891-8845-4A81-8CBF-DA00217C9ED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977449A6-922A-4213-BB5E-E1EE97F8F4B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44EE66B-3CF5-483B-A3A2-F96CC3C491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E7A5DF4-E74D-4FFD-92B9-2878E92D1F8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496F3D4-A92F-4A21-AE00-A0B13197AB4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BF5B7BD-215F-464B-8B66-2358C47785A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4C9DB58-615A-4492-84EA-3585B0EF1B4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3214B24-25B7-4FAA-AB78-7A29979DBD8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67D5EE8-68A3-4752-9AF8-293058CB14C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1A1D835-D31C-4985-80FA-C8C1DB8C561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CF77175-0277-4D76-8E67-B3871AA6E9F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E30C21D-CA53-4EA6-9ACA-FB58D7DE3E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46837C6-940A-4E2A-B013-CC0A68F7B0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C9DE5A94-6419-496B-ADFC-03DB23426D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BE765E1-A58B-4291-B10D-5B15032B3A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8553DC52-2F4E-4AA6-84F6-A8AF1BEB85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1F13DFB-3EB0-4707-9585-5577721A2C7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04A77BD-3966-4168-901B-FDC925553DD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047159B-965D-4A40-B38B-7AE7306AF70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A43689F-281C-4096-949F-6DAB9A49631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65A1DBD5-1D61-4C35-B2DA-3857694CDA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9E2E5A73-9CDD-49F1-B099-B0C5D31C11A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9AB3272-6F13-41A7-BCB4-32647B23ADD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DD37CC8-B960-4E91-8D95-187C4A91C4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9FC46CB-EBA9-4476-9E83-E18F25E94B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2456F1-5757-491D-861E-541197BD0DF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6F53049-4496-4CE0-AACA-CEE4248B97A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03883E4A-AD77-49FF-B64E-74E17BD7358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9867D4F-6266-4AE8-949A-5B0481875AB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C8072FC-4D93-473A-A033-A87485E8953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C4F7B42-7374-4382-8546-0BF8C25C7A9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96BBD88-A2C4-4951-BC5A-9DF6AB5B02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F386F3D-8559-4457-82BC-08282FF030B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75917704-D205-4904-BB24-7E76117045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2887A311-7D0E-4D2F-9AE8-A470795BC34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249E058-FFDA-4E5B-849C-841FE7DBAE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9544AE1-1719-4BA4-916A-357F0732484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933B271-BC69-4E18-8086-1ED24B57F6D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BA0C291-BC81-4F2B-8C87-7881E73A15A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A4B45C9-ECCF-4B5A-AB85-6C4E02AA60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8319897-8159-492A-AD5A-C94ECB46917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12DB20F-B223-4D07-9E4C-783933484EF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45C2476-2571-44FC-BBE6-55809530AC0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4F486AF-ECE1-4FAF-AE33-02B75278FE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A7584D6-40AA-4B6A-AE91-C8C0F145EE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EE45A95-7869-433E-8702-28F43BFD79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D239F32C-F148-496A-A125-0877FC46D2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D9BADF0-DD55-4DDD-9C5F-0EEAAC46330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B9A75879-092E-46FB-A891-8B2E024DF2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39074EA-D359-4115-B0EC-20952F598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7EB3A27-9BD8-4FBB-A65E-D3CA8E5D0C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82902DB-4C88-4809-A2C5-D8F8F1ACB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FC75D73-4461-410E-8F87-3672B274D6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E22C135-C193-4F1A-AF70-ED65DABDD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FACAA5F2-25EF-4353-8793-12B07EC71A4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A281549-5809-4817-B68B-7DA417CD02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2AB78FA-6AEB-4594-B4A9-60D9E2DF3C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7C9D660-4BCA-48E7-8CE7-1EAB812FE5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7F5A8B5-B820-45B0-B585-18DE2CDB53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5212755-A5EF-42DC-9201-D356B73A34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DD32E22-C7C1-479D-B5D9-DCFAB788E1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D69564B-67A7-48D8-8EF5-235127C1B6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FF6A379-8CB7-4D1A-80C9-700D1B00D6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4D3C295-9666-429D-B451-815BBA6E1E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A1358E4-6C00-4B0A-978F-43602C87FF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B9CE6F-9B97-4A79-B27A-B954AB6E68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C1396F-506B-4708-906A-BC8AFEE84A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D83FE6-A174-4328-8518-3A3C090E21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C6048F0-2754-4338-85B1-34F0FFB472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57FC3F-72AC-4CD9-955A-F220750DAF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BD0203B-D7CC-4A29-8BD7-52D7E5591D2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51F026C-FFAA-4A9F-AFA3-232ED681E7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05608A0-CD29-425A-A0DF-CEBDB0608B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EA18417-E3BD-406F-802E-2D5CB24CF9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3CAD338-CB1D-46AA-BD57-B821E5B3CA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63D9C4D-CD6F-42CD-BA05-D703023412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D3017C1-BFB9-4698-8AFB-622F9BE3BD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3C14FE2-EE40-43DE-85FF-3F15E00E0BC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DF343F-F259-4CED-B8B8-21F5CFF6651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2F96E30-C40B-4EEA-AF30-35B3447D9AC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3016367-3669-4058-B9D8-1431621DB7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9224195-53C7-4BDE-BCFA-8153C1D51C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DC73517-FB93-448B-B376-6D7DA3E2BB4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B7A19BE-B629-476A-9B34-64DD74CF3A8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2AF0C7C2-9D4F-4ACE-A8D2-76116A11793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B694261-151D-4867-A15B-82EC2CAAB88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50A5D4C-8954-40EE-A0BD-A554785F07D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F3FE7FB-297C-42C8-88AD-D60B965E179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6593D86-0E76-4460-A510-51797ED7DD0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BC7723FC-956E-4331-BAA0-353B849F45C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A3F4206E-929D-4767-AE02-E9CE914FA02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136F02-5FCC-4B2A-992A-9D0DFB6532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993F1F4-3153-4F84-90F4-E65DDFAA1AE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F859F10-DEE3-4C63-B125-C45CE28F9C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D0591C4-0A5C-4786-9F2A-2F45FFBF802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F74A6BB-BD0F-4C42-AB67-3743E5CE1AE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2602939C-61BB-4BF9-B3CE-A17B538676F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0DA7B827-A721-4BFE-B8B6-5FDB31A1093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61C6E0D-865B-4E7D-8CA0-8409902D839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FC1BFEF-B352-48E4-929E-4060142EFC5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010C1E6-B474-4B4F-A8BA-28E50072637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7BD74E6-7435-4D45-8551-0968B2BBB3D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8E4E7CE6-D287-4AB8-B5E9-FE420C551C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5A119B9-FE93-4800-BBFE-E94C643FDC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D11C6FF-CF9B-43F2-9566-D75DC80E952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6AF337-D04C-4736-95AB-A2A96088CA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FC416B3-0D2A-484B-BF34-08D26318D82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BF55349-22DA-4887-A187-F27C04E056F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5C1E0DE-7036-4483-BA86-702C2A5E3F5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12213CA6-5D75-4A6B-9EA4-E71A494C024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6B5E91BD-5915-4DC7-805F-1427AF72D0B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51F9023-E324-4920-8E9E-E60654A8212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657DD35-175F-4525-B01B-D581FF17413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6FFD1AD-196E-40A8-9EE6-469E811B45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2E83933-8DAB-468B-AB31-14543DFB930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E4EC02A-7E4C-432D-A3A5-53758ABA51E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6BE642F-C039-4B8B-BE77-35FAAEC6122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149306C2-359F-4B31-ABDA-1043B0CD8E5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D26BE82-51AB-41D5-976A-5F7B49EB478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AB7D5FE-8E47-4807-B9A1-7971E3E5212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5B28F9EB-F89A-4C54-9147-934F73DAE4B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D453830-4FC0-4F2C-9A01-34FF5ACB68D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8F96137E-7CE5-4E3E-8FAC-897083BD94C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9D8CB92E-1EA1-4CFF-BBFD-3625EA6FD3C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E18F9F8-59B5-4114-89D5-79E876260E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20F554F-6261-426E-9F5E-522C82FE90F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8066835-2245-4F34-87F0-968CD950E1B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A5273D8-8245-46A4-BB95-80A13B6E607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80CA481-4ABE-43D0-A674-EC949ACBFE1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76877D4-FBE7-4448-8EE7-A6F1BA1D155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E47109B4-91AB-4BF7-8E80-D5CB6090F58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6B3F5B-CC1A-4B85-9F3C-56DF11FC347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54A23C4-2F98-466F-BFAB-94EC9F55D18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6F5D978-C3F5-458D-9FCC-1543A7E7628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25C7831-9C15-4CA3-9FB9-E71F6BD94D3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19B4E97E-468E-4047-B42B-8661964A08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6269CD4-22F2-42F9-8245-E75539158EC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D2B606E-DAD8-4FC4-A8FC-329D8927BB5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FA56FE1-3E04-49F8-8B7B-2B731B48EEE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01CD9BE-3BC4-4424-9829-49B495889C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4139314-1073-4E8F-B678-343708415A9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37B38D4-6F80-441E-8519-1FC29A5450A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951D99E-747B-462F-8F44-07202E20DA5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DD5846F3-C6D0-4F52-A777-35024334D5B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8D9D4BA-AF39-4F4C-9082-B3914B71A9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58E0912-800A-4ECB-9C2A-CD6BCE0DD3D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7332529-C9B4-4D93-B54E-E1BFB3F07B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36A3C-B555-46A0-A11D-59859D8681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A9A4F-0938-4629-80E5-E5DF1540E5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633F8-B4CD-4970-8D47-3E89A9E788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FD28B2-9AAE-444C-A9BD-E34AFE7489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B8462B-D3A3-4A71-9F12-F08EDC61B4C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A7AC8-2837-404A-B748-96BA53CF16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1A8F0-8969-404B-93B8-2AD87F6C99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D16DE1-6414-4F53-B05B-8DB7275C5E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B0133-B3B6-4448-8D83-DDBC3CC5C5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D6BAA-7864-49E1-A252-66AB8CF061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F06B8-4116-4259-B9D4-B6E8E805AB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B3FCB-AC42-4ADE-B4B6-29E76AF1EC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0A7B2-956E-48A7-9E14-2B4E2A6A56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125360"/>
            <a:ext cx="7812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26920" y="1125360"/>
            <a:ext cx="799308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50920" y="981000"/>
            <a:ext cx="8642160" cy="4680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81080" y="1392120"/>
            <a:ext cx="8783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250920" y="1052640"/>
            <a:ext cx="8640720" cy="4659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468360" y="1392120"/>
            <a:ext cx="84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611280" y="1989000"/>
            <a:ext cx="827712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9528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62" name="" descr=""/>
          <p:cNvPicPr/>
          <p:nvPr/>
        </p:nvPicPr>
        <p:blipFill>
          <a:blip r:embed="rId1"/>
          <a:stretch/>
        </p:blipFill>
        <p:spPr>
          <a:xfrm>
            <a:off x="0" y="0"/>
            <a:ext cx="9144000" cy="1368360"/>
          </a:xfrm>
          <a:prstGeom prst="rect">
            <a:avLst/>
          </a:prstGeom>
          <a:ln w="0">
            <a:noFill/>
          </a:ln>
        </p:spPr>
      </p:pic>
      <p:pic>
        <p:nvPicPr>
          <p:cNvPr id="1163" name="" descr=""/>
          <p:cNvPicPr/>
          <p:nvPr/>
        </p:nvPicPr>
        <p:blipFill>
          <a:blip r:embed="rId2"/>
          <a:stretch/>
        </p:blipFill>
        <p:spPr>
          <a:xfrm>
            <a:off x="1258920" y="2060640"/>
            <a:ext cx="1297080" cy="1528560"/>
          </a:xfrm>
          <a:prstGeom prst="rect">
            <a:avLst/>
          </a:prstGeom>
          <a:ln w="0">
            <a:noFill/>
          </a:ln>
        </p:spPr>
      </p:pic>
      <p:pic>
        <p:nvPicPr>
          <p:cNvPr id="1164" name="" descr=""/>
          <p:cNvPicPr/>
          <p:nvPr/>
        </p:nvPicPr>
        <p:blipFill>
          <a:blip r:embed="rId3"/>
          <a:stretch/>
        </p:blipFill>
        <p:spPr>
          <a:xfrm>
            <a:off x="6948360" y="1989000"/>
            <a:ext cx="1444680" cy="1573200"/>
          </a:xfrm>
          <a:prstGeom prst="rect">
            <a:avLst/>
          </a:prstGeom>
          <a:ln w="0">
            <a:noFill/>
          </a:ln>
        </p:spPr>
      </p:pic>
      <p:sp>
        <p:nvSpPr>
          <p:cNvPr id="1165"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6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01Z</dcterms:modified>
  <cp:revision>175</cp:revision>
  <dc:subject/>
  <dc:title>Παρουσίαση του PowerPoint</dc:title>
</cp:coreProperties>
</file>